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741953"/>
        <c:axId val="98610932"/>
      </c:barChart>
      <c:catAx>
        <c:axId val="30741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10932"/>
        <c:crosses val="autoZero"/>
        <c:auto val="1"/>
        <c:lblAlgn val="ctr"/>
        <c:lblOffset val="100"/>
        <c:noMultiLvlLbl val="0"/>
      </c:catAx>
      <c:valAx>
        <c:axId val="986109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41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562-1509-4B83-85D1-F90AD965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AA6E-D7BB-41B2-8B86-385E69D3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0D17-0090-4F8A-AAEF-F9FAD72C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4AC3-6B99-43CF-83D2-3A91B023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F9FB-2D8E-460B-8E72-EF4C47F4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70C-9819-4F0B-BDC6-5ACDC57F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9D0-AF18-46DF-8F12-B35262E1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A8C-CBA3-4B8F-AB47-E79B71B3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4B1-ADCF-4F63-96BB-4461E649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5D7-370D-458D-82A2-85893DEB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DEC-BDFF-4E87-8C35-4B3F88EA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779-3693-4D7F-AC1F-B11A1339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F4223-32ED-44AA-A333-0FA89CE680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