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95392"/>
        <c:axId val="62653306"/>
      </c:barChart>
      <c:catAx>
        <c:axId val="15095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53306"/>
        <c:crosses val="autoZero"/>
        <c:auto val="1"/>
        <c:lblAlgn val="ctr"/>
        <c:lblOffset val="100"/>
        <c:noMultiLvlLbl val="0"/>
      </c:catAx>
      <c:valAx>
        <c:axId val="62653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5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4CA-AF06-4831-AAF3-8B4BB114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383-31EA-4175-AF3B-F77BE26A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77D-9B90-4B60-ABD2-9F7B49C1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13C-EFF4-49E4-8C96-885731A0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71D-8E5E-4231-8401-6190337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B9F-6ECF-4779-8648-154768A5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196-9C31-424E-8462-C9197231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7D4-FA7A-47F4-9DE7-2C4DEDD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39F6-1C37-4357-AAF9-9527E687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E14-CEC7-4750-81E3-C3C07E3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DBC-BB87-4135-9186-7F3733B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7AB-FC87-4191-B42E-86B512F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40096-34F5-4B5B-9BC3-42084122A8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