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29678"/>
        <c:axId val="80617327"/>
      </c:barChart>
      <c:catAx>
        <c:axId val="88329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17327"/>
        <c:crosses val="autoZero"/>
        <c:auto val="1"/>
        <c:lblAlgn val="ctr"/>
        <c:lblOffset val="100"/>
        <c:noMultiLvlLbl val="0"/>
      </c:catAx>
      <c:valAx>
        <c:axId val="80617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29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261-269B-4DCD-BA24-58F44C47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751-EB25-4187-ADBD-5E896BE2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2F1-3755-4550-9F94-CD678C27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9BF-9EFD-4294-ABCF-44CC8041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B4E9-6FF4-4113-86D0-298DAA86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46A-5E74-47F6-B2E1-2FB3BDE4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AF1-DC6E-45B5-A59F-E0EE9C6D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3DF-1E8B-4A1E-A426-1E45D7F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882-EE7F-4230-A32A-8ED8C5EE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031-BBA7-454F-829E-97BB910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529-2BA9-4B35-9609-45553537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15E-BCB3-4AE1-B4DC-464AC15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C0DF4-8AEE-4AD4-B0F1-25682F16D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