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96820"/>
        <c:axId val="79045300"/>
      </c:barChart>
      <c:catAx>
        <c:axId val="45596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45300"/>
        <c:crosses val="autoZero"/>
        <c:auto val="1"/>
        <c:lblAlgn val="ctr"/>
        <c:lblOffset val="100"/>
        <c:noMultiLvlLbl val="0"/>
      </c:catAx>
      <c:valAx>
        <c:axId val="79045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96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80E-30B0-4698-A55D-519884F0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A29-18AE-48A1-B4C5-77C21A24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955-1CD5-434E-B855-A580896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681-E0A2-4FA0-8D43-75215AEC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C68-475E-48F9-83CD-76B2FCC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049-7E07-48B8-B64D-9F81F00B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56C-FD48-4F9A-BBD1-8353B92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4BA-BD1D-448F-8954-3450429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188-4C88-42B8-835E-37F3116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32F-89C2-4A94-AFA4-3CD47B99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08E-AE1F-4B8D-9652-13AB3E4E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1CD-1ADE-4A6F-8A8D-BA322C05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AA4AF-304B-44F1-8C93-3EBA508391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