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2652"/>
        <c:axId val="94393261"/>
      </c:barChart>
      <c:catAx>
        <c:axId val="7292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93261"/>
        <c:crosses val="autoZero"/>
        <c:auto val="1"/>
        <c:lblAlgn val="ctr"/>
        <c:lblOffset val="100"/>
        <c:noMultiLvlLbl val="0"/>
      </c:catAx>
      <c:valAx>
        <c:axId val="94393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2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DF2-9F8A-40F3-820A-A908623A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CB7-5082-42F7-A269-E31D1EF2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240-A1C5-4531-8F9C-896B2440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176-77C6-47C6-8BAE-D9896487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BFE-6932-458B-93EF-64C9D80A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FD0-D04B-49E2-A352-F6184FAF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B48-58B9-4CD0-99ED-F52C656C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42A-CFC4-4F88-A589-4A4F4D1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48C-9F72-4643-8930-CC5B9244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D2D-F95D-4C92-A94E-130A8BC9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339-4A6C-437C-B8F5-4FC0C0A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AE6-B9A3-4DC1-A5D7-6740D8F3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CFE70-1F43-4B31-A844-16EECECC5E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