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74614"/>
        <c:axId val="64017466"/>
      </c:barChart>
      <c:catAx>
        <c:axId val="93474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17466"/>
        <c:crosses val="autoZero"/>
        <c:auto val="1"/>
        <c:lblAlgn val="ctr"/>
        <c:lblOffset val="100"/>
        <c:noMultiLvlLbl val="0"/>
      </c:catAx>
      <c:valAx>
        <c:axId val="64017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4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122-5EE9-4D27-BE39-2C4239FF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D38-9EEE-47DE-A447-7EB7F2E6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451-AF6C-4FED-AC2C-B817E9F4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16E-55B8-4808-97BD-4627FA02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E29-43DD-4591-98C1-CDBF679C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BB6-EB09-434A-BE83-FFF7DAA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A65-496D-46A8-991E-FADF316F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A9D-DD4F-44F5-BD00-190101E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49F-F02E-40CB-A560-88B8704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1B0-2B5B-4736-8A33-AF033D9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491-638A-4325-81A8-53FBA3B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D35-A553-4B43-A83D-33753EF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D3331-E36B-4F05-809F-AF89FA7BB7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